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9.jpeg" ContentType="image/jpeg"/>
  <Override PartName="/ppt/media/image11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9.png" ContentType="image/png"/>
  <Override PartName="/ppt/media/image35.png" ContentType="image/png"/>
  <Override PartName="/ppt/media/image5.jpeg" ContentType="image/jpeg"/>
  <Override PartName="/ppt/media/image7.png" ContentType="image/png"/>
  <Override PartName="/ppt/media/image36.png" ContentType="image/png"/>
  <Override PartName="/ppt/media/image41.jpeg" ContentType="image/jpeg"/>
  <Override PartName="/ppt/media/image43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B3E-4B6A-48FC-BD03-03C9A53B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C69-D18B-4160-8551-4C6A2153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86C-AA76-45A3-A6A1-B63E9E9E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917-52EA-4AEA-9B38-704C258E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51C-B08F-4E88-88A6-9B160B87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918A-F4AE-4F8F-9774-6632B569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5C4D-6209-49E2-9406-E66CABB7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B18D-1B33-412C-8534-C7AF25FB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C509-5A62-41D2-B69D-46FDA7D4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0FC9-8E79-43D2-AB65-C8B6AEBA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78A9-4709-43C4-BAA2-9683FFF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D68-A679-4F40-A349-625E17A3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60C5-4832-43AE-9C9B-D322916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5384-B12F-4986-90E5-F71AA713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635F-C75F-4706-B4B8-5D519DD4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E7E1-F89A-44B6-97AC-460ADEF8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3C3C-9D1E-421B-A447-CE07993B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E2A2-FA52-4844-8DF3-3F26204F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505E-4ED9-42A9-980B-9CD637C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1FF0-A744-44B3-B6EF-6E20C06D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1D04-15DB-4F2B-A8AD-AD82E5E2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D9FD-9CFA-4895-87BD-3971DA0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484-B9D6-4FB9-B0C6-D1574B5D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C89E-3D89-4274-8816-50B4351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35EA-76C0-470B-81D0-0BC1EE9C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7F3E-5989-4AF7-88FD-E820309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9057-774D-4F7A-AB07-55CACA92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C585-3DB1-4D7A-B98F-439462AD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EC75-BCA3-4DA0-8885-117F0527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0CE9-8B41-420A-B983-A4678A35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10D4-B263-4DCC-A7B9-3290FC03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EAEDA-7AF8-4964-8C17-A440573F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6F24-7082-4E33-8A62-B304C917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5D0-D5FF-4B3A-B8EE-C42C1145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1C24-4DBA-4649-A541-55F72FF9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AD2C-056F-4606-9A36-FE3036AE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7211-5821-4B3C-BAB6-54BEC25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B98A-F3F3-44C3-8DF0-56905C8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2262-7D50-4A61-8DBA-099C194E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2342-4A28-4581-A3AD-0917F752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3FFB-CE76-48A4-B717-FE02F6E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64A7-8723-4090-9C8D-5974B659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44E4-9807-4B69-96A8-5E267303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72B2-DB57-4113-9490-653D9FDD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3B0-9FED-4B8B-A815-399B982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7FBE-7AB0-4F34-9060-64D6198D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762EB-FAEC-4C9E-926E-E5CF06CA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97D9-788E-4DDB-BBE1-5E2C6E88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665BC-9B6E-4A78-B1CE-6AF6B042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C2596-2047-417A-A10A-A98CDEBD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4AB2E-7864-4116-8345-6042DC1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9FA41-906C-49C6-B17F-B187BA78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9FEB3-C44D-4AFF-8535-F4C90A7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C342B-D155-4AAD-8A2E-0E0FBB3E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92F4-28E3-45D8-85DE-C0A9A23F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CFC-B2E3-4CBD-BACF-DB82E2C9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1F050-94B3-474A-86FE-D69424F1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47CA-88C2-46A4-AAE2-495CC71B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5F79C-DB5A-43AD-BBE8-A3EE37D1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C5B7-FC2C-4453-8E81-76D444C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0A73-597C-4412-9302-D3F822A8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7B19-13BC-4093-8275-A6AFDB04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76888-CEA6-4604-9DCC-F43E8BD1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6935-C1F8-4981-B2FF-A9717209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09A45-734C-40A6-AC58-6FA1885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B5C9-BEA9-4483-AC99-AFE60B4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CAE-E1FA-4639-A131-D9B8B7D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5872B-F375-4B55-B584-9E4C46BE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47A78-2A3E-43A0-85D7-35C294B3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44283-0DAE-4B75-92A7-83A84F7B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01D7-4B4C-41CB-96AB-28F5CAFB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81C6-F795-4171-ACB0-63D86B50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68516-B869-4B51-83E7-631FEB14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52D43-5B38-4F59-ABC1-16258D55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5DD98-CB9D-4F39-88F4-DC019508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4836E-1C1B-4B00-AF05-4285AABA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EC7F2-6A8F-412B-8D52-E8464FA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9DE-8841-4A0D-940B-30CD0DE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7302-E452-4AA0-AE98-4A0F3EB9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2871-D4C4-487E-BDCC-08A1114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52274-FC15-47E1-994A-1E989FA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6430E-38CD-43EE-8A4C-A4467BBF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0DBC6-BE1E-45C8-A894-98E20627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23103-3C42-4545-B8C0-B45E34DB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859F6-A973-4874-86D9-E7B30205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5261F-F192-479C-862B-54F4CDCB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123E5-202E-491D-A23A-53DFA73E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D5A1E-C74C-4A5A-90DA-5B7DA5D5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ED5-FAEE-4AE4-A60A-3A02E031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A7455-1C2D-477A-933A-0EC83D9C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76D42-4794-4D9E-9323-0936701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F8736-A3E2-469B-A0D2-1072C484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AAC8-A82E-4F22-990C-BFB20928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AD61F-8B7E-4210-88B9-DC20C0EE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900A-0E03-4D87-A70E-CB414796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11A45-0FB2-4410-A2F3-5C4DE802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F9D6-ACDC-4980-AD3A-17E6F8061B57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8CA-9509-48C5-B349-154AA6C688D8}" type="slidenum">
              <a:rPr b="0" lang="es-PE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F4F8-5CB1-4288-B86A-294CBCB484E5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548F-B1D5-492F-96E1-A9573B7B31EC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6547-3E20-45A1-9570-AEA0431ADC78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0219-6E01-4060-9B3D-F7BD27EE00CB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BE79-3851-467E-91FD-E1B77259111D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3135-FA8E-45A8-BC13-E2BAD68FB8C9}" type="slidenum">
              <a:rPr b="0" lang="es-PE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566640" y="201600"/>
            <a:ext cx="8089920" cy="993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http://www.iiccordoba.esteri.it/IIC_Cordoba/webform/..%5C..%5CIICManager%5CUpload%5CIMG%5C%5CCordoba%5CUlises.jpg"/>
          <p:cNvPicPr/>
          <p:nvPr/>
        </p:nvPicPr>
        <p:blipFill>
          <a:blip r:embed="rId2"/>
          <a:stretch/>
        </p:blipFill>
        <p:spPr>
          <a:xfrm>
            <a:off x="0" y="1071720"/>
            <a:ext cx="91184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3 Marcador de contenido" descr="ulises-y-los-pretendientes-de-penelope.jpg"/>
          <p:cNvPicPr/>
          <p:nvPr/>
        </p:nvPicPr>
        <p:blipFill>
          <a:blip r:embed="rId1"/>
          <a:stretch/>
        </p:blipFill>
        <p:spPr>
          <a:xfrm>
            <a:off x="714240" y="1857240"/>
            <a:ext cx="8334360" cy="5000760"/>
          </a:xfrm>
          <a:prstGeom prst="rect">
            <a:avLst/>
          </a:prstGeom>
          <a:ln w="0">
            <a:noFill/>
          </a:ln>
        </p:spPr>
      </p:pic>
      <p:pic>
        <p:nvPicPr>
          <p:cNvPr id="394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2"/>
          <p:cNvSpPr/>
          <p:nvPr/>
        </p:nvSpPr>
        <p:spPr>
          <a:xfrm>
            <a:off x="63360" y="-136440"/>
            <a:ext cx="4038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63360" y="-136440"/>
            <a:ext cx="4038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5 Imagen" descr="Teseo_y_el_Minotauro.jpg"/>
          <p:cNvPicPr/>
          <p:nvPr/>
        </p:nvPicPr>
        <p:blipFill>
          <a:blip r:embed="rId2"/>
          <a:stretch/>
        </p:blipFill>
        <p:spPr>
          <a:xfrm>
            <a:off x="2143080" y="1627200"/>
            <a:ext cx="55008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3 Marcador de contenido" descr="PerseoMedusaAtenea.jpg"/>
          <p:cNvPicPr/>
          <p:nvPr/>
        </p:nvPicPr>
        <p:blipFill>
          <a:blip r:embed="rId1"/>
          <a:stretch/>
        </p:blipFill>
        <p:spPr>
          <a:xfrm>
            <a:off x="2857680" y="1703520"/>
            <a:ext cx="4330440" cy="5154480"/>
          </a:xfrm>
          <a:prstGeom prst="rect">
            <a:avLst/>
          </a:prstGeom>
          <a:ln w="0">
            <a:noFill/>
          </a:ln>
        </p:spPr>
      </p:pic>
      <p:pic>
        <p:nvPicPr>
          <p:cNvPr id="400" name="2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3 Marcador de contenido" descr="dedalo.gif"/>
          <p:cNvPicPr/>
          <p:nvPr/>
        </p:nvPicPr>
        <p:blipFill>
          <a:blip r:embed="rId1"/>
          <a:stretch/>
        </p:blipFill>
        <p:spPr>
          <a:xfrm>
            <a:off x="1571760" y="1449360"/>
            <a:ext cx="5521320" cy="5408640"/>
          </a:xfrm>
          <a:prstGeom prst="rect">
            <a:avLst/>
          </a:prstGeom>
          <a:ln w="0">
            <a:noFill/>
          </a:ln>
        </p:spPr>
      </p:pic>
      <p:pic>
        <p:nvPicPr>
          <p:cNvPr id="402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3 Marcador de contenido" descr="5SL8VCA71JCL3CATMB548CAYLSEIRCA1VCO4DCAT333GBCAL139S4CA2GIMQBCAL05AAQCASFRG4WCAGGXOUECAJ04YHTCABCJE6WCA0ZHFTVCATY9X7ZCADR8VPSCAGI50HDCAU23VTNCA22EFO0.jpg"/>
          <p:cNvPicPr/>
          <p:nvPr/>
        </p:nvPicPr>
        <p:blipFill>
          <a:blip r:embed="rId1"/>
          <a:stretch/>
        </p:blipFill>
        <p:spPr>
          <a:xfrm>
            <a:off x="571680" y="1714680"/>
            <a:ext cx="7886520" cy="5143320"/>
          </a:xfrm>
          <a:prstGeom prst="rect">
            <a:avLst/>
          </a:prstGeom>
          <a:ln w="0">
            <a:noFill/>
          </a:ln>
        </p:spPr>
      </p:pic>
      <p:pic>
        <p:nvPicPr>
          <p:cNvPr id="404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IR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oemas: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xpresan sentimientos personales o colectivos. Lírico (deriva de “lira”) Entre los más conocidos tenemo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afo: Epitalami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índaro: 44epinici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3 Imagen" descr="TX3LLCAT1VSIZCA478OKPCAKPV01HCAS2SDSLCAIVP9OZCA40YIFECAFT4EGBCARFK15GCAPKQN8BCAAD40PECAB42PVOCA6C2PJNCAK5UHQ5CARUKQ5RCAL5HRUECA76EM6BCA8FPJE3CAR9J6BB.jpg"/>
          <p:cNvPicPr/>
          <p:nvPr/>
        </p:nvPicPr>
        <p:blipFill>
          <a:blip r:embed="rId1"/>
          <a:stretch/>
        </p:blipFill>
        <p:spPr>
          <a:xfrm>
            <a:off x="5719680" y="3857760"/>
            <a:ext cx="3424320" cy="2714400"/>
          </a:xfrm>
          <a:prstGeom prst="rect">
            <a:avLst/>
          </a:prstGeom>
          <a:ln w="0">
            <a:noFill/>
          </a:ln>
        </p:spPr>
      </p:pic>
      <p:pic>
        <p:nvPicPr>
          <p:cNvPr id="407" name="4 Imagen" descr="Safo.jpg"/>
          <p:cNvPicPr/>
          <p:nvPr/>
        </p:nvPicPr>
        <p:blipFill>
          <a:blip r:embed="rId2"/>
          <a:stretch/>
        </p:blipFill>
        <p:spPr>
          <a:xfrm>
            <a:off x="3429000" y="4286160"/>
            <a:ext cx="2571840" cy="2274840"/>
          </a:xfrm>
          <a:prstGeom prst="rect">
            <a:avLst/>
          </a:prstGeom>
          <a:ln w="0">
            <a:noFill/>
          </a:ln>
        </p:spPr>
      </p:pic>
      <p:pic>
        <p:nvPicPr>
          <p:cNvPr id="408" name="5 Imagen" descr="BLS5JCA2RDGFACA0LVGP2CAF1BMJ4CAPPQDTQCA6DY1IHCASYA66MCAV12GHWCABE801DCAUQWLEDCAJKGAISCAILWMTVCAUVGC3ICAMYUQBICA4NHZ57CAJ329IDCAHGGEEHCAOZ13FVCABFKUK4.jpg"/>
          <p:cNvPicPr/>
          <p:nvPr/>
        </p:nvPicPr>
        <p:blipFill>
          <a:blip r:embed="rId3"/>
          <a:stretch/>
        </p:blipFill>
        <p:spPr>
          <a:xfrm>
            <a:off x="357120" y="4357800"/>
            <a:ext cx="271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I. 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racterístic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Nació estrechamente relacionada a la religión; se conservó gracias a la tradición oral y a la gran capacidad de los aedas que recitaban de memoria los miles de vers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os dioses parecen “humanizados”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naturaleza siempre está pres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ultivaron todos los géneros literari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cribieron en griego clásico y koiné. (una lengua popular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nden culto a la belleza y a la armoní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Y ahora te toca investigar… (Para la próxima clase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scribe (en el paréntesis) la letra que relaciona autor y obra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dipo rey                                    (      ) Anónim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Iliada                                           (      ) Herodot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Las ranas pidiendo rey a Zeus    (      ) Sófocl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Oda a la zegarra                          (      ) Plató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Nueve libros de historia               (      ) Homer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l banquete                                  (     ) Esop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Narciso                                         (     ) Anacreont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Mito de Sísifo                               (     ) Eurípid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Las nubes                                     (     ) Aristófan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Medea                                           (     ) Saf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scribe alguna característica de estos seres mitológico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Atenea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íclope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irce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an Cerbero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Gorgona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Hades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ueden s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a caja de pando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Promete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os trabajos de Hércu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Dido y Ene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Perséfo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Perseo y la Gorg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Dédalo e Ícar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Obra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a odis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a Ilia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a Enei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Edipo Re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2 Título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3091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Perseo y la Gorgona Parte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Perseo y la Gorgona Parte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Perseo y la Gorgona Parte 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Dédalo e Icaro Parte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Dédalo e Icaro Parte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Dédalo e Icaro Parte 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500040" y="356760"/>
            <a:ext cx="82296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000000"/>
                </a:solidFill>
                <a:latin typeface="Lucida Sans Unicode"/>
              </a:rPr>
              <a:t>EPICA GRIEGA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Epopeyas:</a:t>
            </a:r>
            <a:r>
              <a:rPr b="0" lang="es-ES" sz="2500" spc="-1" strike="noStrike">
                <a:solidFill>
                  <a:srgbClr val="000000"/>
                </a:solidFill>
                <a:latin typeface="Lucida Sans Unicode"/>
              </a:rPr>
              <a:t> Narraciones épicas escritas en verso, atribuidas a Homero: La Iliada, Odisea. Compuestas para ser escuchada, relatan acontecimientos colectivos grandiosos y hazañas de héroes colectivos. Ambas vinculadas a la guerra de Troya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Mitologías:</a:t>
            </a:r>
            <a:r>
              <a:rPr b="0" lang="es-ES" sz="2500" spc="-1" strike="noStrike">
                <a:solidFill>
                  <a:srgbClr val="000000"/>
                </a:solidFill>
                <a:latin typeface="Lucida Sans Unicode"/>
              </a:rPr>
              <a:t> Conjunto de relatos que tratan de explicar el origen de las cosas, seres de la naturaleza, el universo. Ejm: Prometeo, Perseo y la Gorgona, Teseo y el Minotauro, Ícaro y Dédalo, Pandora, Orfeo y Eurídice, etc. Sus autores son desconocidos. 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Fábulas:</a:t>
            </a:r>
            <a:r>
              <a:rPr b="0" lang="es-ES" sz="2500" spc="-1" strike="noStrike">
                <a:solidFill>
                  <a:srgbClr val="000000"/>
                </a:solidFill>
                <a:latin typeface="Lucida Sans Unicode"/>
              </a:rPr>
              <a:t> Relato breve y ficticio, donde aparecen como personajes animales con características humanas. Su didáctica es enseñar por ello, tiene una moraleja: El más famoso fabulista griego es Esopo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2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www.rmm.cl/usuarios/jriff/imagen/200508152053280.dioses%20griegos.jpg"/>
          <p:cNvPicPr/>
          <p:nvPr/>
        </p:nvPicPr>
        <p:blipFill>
          <a:blip r:embed="rId2"/>
          <a:stretch/>
        </p:blipFill>
        <p:spPr>
          <a:xfrm>
            <a:off x="0" y="1428840"/>
            <a:ext cx="8858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2 Título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bienmesabe.org/revista_uploads/TradicionOral.jpg"/>
          <p:cNvPicPr/>
          <p:nvPr/>
        </p:nvPicPr>
        <p:blipFill>
          <a:blip r:embed="rId2"/>
          <a:stretch/>
        </p:blipFill>
        <p:spPr>
          <a:xfrm>
            <a:off x="0" y="1143000"/>
            <a:ext cx="4429080" cy="5000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blog.pucp.edu.pe/media/124/20080307-portada%2050.jpg"/>
          <p:cNvPicPr/>
          <p:nvPr/>
        </p:nvPicPr>
        <p:blipFill>
          <a:blip r:embed="rId3"/>
          <a:stretch/>
        </p:blipFill>
        <p:spPr>
          <a:xfrm>
            <a:off x="4410000" y="1143000"/>
            <a:ext cx="473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2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web.tiscali.it/lamitologia/olimpo.jp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3 Marcador de contenido" descr="CAVGWA0RCAUNWL8NCAJRW9XECAXSCL1SCAEXES21CANSWGOTCAGDRO6NCAJ417I9CA1VLR1ZCAI485N7CAWEQVUZCAJ9JO6VCA0W8OL4CAGWIFRLCAC7OENKCA6K3KJ9CAAJYUMCCACSZRCU.jpg"/>
          <p:cNvPicPr/>
          <p:nvPr/>
        </p:nvPicPr>
        <p:blipFill>
          <a:blip r:embed="rId1"/>
          <a:stretch/>
        </p:blipFill>
        <p:spPr>
          <a:xfrm>
            <a:off x="0" y="1000080"/>
            <a:ext cx="4143240" cy="3106800"/>
          </a:xfrm>
          <a:prstGeom prst="rect">
            <a:avLst/>
          </a:prstGeom>
          <a:ln w="0">
            <a:noFill/>
          </a:ln>
        </p:spPr>
      </p:pic>
      <p:pic>
        <p:nvPicPr>
          <p:cNvPr id="381" name="2 Título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conciencia-animal.cl/paginas/temas/fotos/hada%20pintura%2004.jpg"/>
          <p:cNvPicPr/>
          <p:nvPr/>
        </p:nvPicPr>
        <p:blipFill>
          <a:blip r:embed="rId3"/>
          <a:stretch/>
        </p:blipFill>
        <p:spPr>
          <a:xfrm>
            <a:off x="4133880" y="1143000"/>
            <a:ext cx="5010120" cy="5715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blogs.librodearena.com/myfiles/ladamadescubierta/41pic2.jpg"/>
          <p:cNvPicPr/>
          <p:nvPr/>
        </p:nvPicPr>
        <p:blipFill>
          <a:blip r:embed="rId4"/>
          <a:stretch/>
        </p:blipFill>
        <p:spPr>
          <a:xfrm>
            <a:off x="0" y="4071960"/>
            <a:ext cx="4062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2 Título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2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://www.miniweb.com.br/Historia/artigos/i_antiga/Alfabeto%20griego_arquivos/gantigu2.gif"/>
          <p:cNvPicPr/>
          <p:nvPr/>
        </p:nvPicPr>
        <p:blipFill>
          <a:blip r:embed="rId2"/>
          <a:stretch/>
        </p:blipFill>
        <p:spPr>
          <a:xfrm>
            <a:off x="5869080" y="1357200"/>
            <a:ext cx="3274920" cy="5500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ttp://sites.google.com/site/lahistoriadelalengua/_/rsrc/1223302773243/yufufujfuyfyufyu/gclasico3.gif"/>
          <p:cNvPicPr/>
          <p:nvPr/>
        </p:nvPicPr>
        <p:blipFill>
          <a:blip r:embed="rId3"/>
          <a:stretch/>
        </p:blipFill>
        <p:spPr>
          <a:xfrm>
            <a:off x="0" y="1285920"/>
            <a:ext cx="5924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3 Marcador de contenido" descr="20081207215149-707014251-07c2403f0d-o.jpg"/>
          <p:cNvPicPr/>
          <p:nvPr/>
        </p:nvPicPr>
        <p:blipFill>
          <a:blip r:embed="rId1"/>
          <a:stretch/>
        </p:blipFill>
        <p:spPr>
          <a:xfrm>
            <a:off x="0" y="4751280"/>
            <a:ext cx="2714760" cy="2106720"/>
          </a:xfrm>
          <a:prstGeom prst="rect">
            <a:avLst/>
          </a:prstGeom>
          <a:ln w="0">
            <a:noFill/>
          </a:ln>
        </p:spPr>
      </p:pic>
      <p:pic>
        <p:nvPicPr>
          <p:cNvPr id="388" name="2 Título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199720" cy="8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http://renacimientomusita.googlepages.com/Fororomano.jpg"/>
          <p:cNvPicPr/>
          <p:nvPr/>
        </p:nvPicPr>
        <p:blipFill>
          <a:blip r:embed="rId3"/>
          <a:stretch/>
        </p:blipFill>
        <p:spPr>
          <a:xfrm>
            <a:off x="4643280" y="4929120"/>
            <a:ext cx="4500720" cy="1928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copepodo.files.wordpress.com/2007/01/bellezamujer.JPG"/>
          <p:cNvPicPr/>
          <p:nvPr/>
        </p:nvPicPr>
        <p:blipFill>
          <a:blip r:embed="rId4"/>
          <a:stretch/>
        </p:blipFill>
        <p:spPr>
          <a:xfrm>
            <a:off x="0" y="928800"/>
            <a:ext cx="914400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Marcador de contenido" descr="8497644905_01_LZZZZZZZ.jpg"/>
          <p:cNvPicPr/>
          <p:nvPr/>
        </p:nvPicPr>
        <p:blipFill>
          <a:blip r:embed="rId1"/>
          <a:stretch/>
        </p:blipFill>
        <p:spPr>
          <a:xfrm>
            <a:off x="1357200" y="1481040"/>
            <a:ext cx="6286680" cy="5315040"/>
          </a:xfrm>
          <a:prstGeom prst="rect">
            <a:avLst/>
          </a:prstGeom>
          <a:ln w="0">
            <a:noFill/>
          </a:ln>
        </p:spPr>
      </p:pic>
      <p:pic>
        <p:nvPicPr>
          <p:cNvPr id="392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28:32Z</dcterms:created>
  <dc:creator>ELIZABETH</dc:creator>
  <dc:description/>
  <dc:language>en-US</dc:language>
  <cp:lastModifiedBy>Computo</cp:lastModifiedBy>
  <dcterms:modified xsi:type="dcterms:W3CDTF">2009-10-28T14:51:23Z</dcterms:modified>
  <cp:revision>17</cp:revision>
  <dc:subject/>
  <dc:title>Literatura clásica</dc:title>
</cp:coreProperties>
</file>